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0808-C3A2-4389-8829-C6484F046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9ADE-EB65-486B-8EDE-F883F7EAB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79EC-62CA-478C-80D0-87894ED35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1E2E-F82C-447D-BD1C-F5AA0D5B3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Note:  All these pages may not be required for personal websites that are just created as a hobb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07CE-6947-4A4B-B91C-DA356D23C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BAD9-D629-4F12-B09E-4489D0A9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CB8-5B28-4C23-B4E2-B5A36C1E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BC5-150E-4474-94AD-BE8ACE7E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8B9-DAA3-4AE5-AC12-E199CBC2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FCDD-80FA-4B80-B484-31EAD850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76AD-3783-484E-951F-BCF0B855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A849-A8CC-4723-AEAC-3591F42A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F210-57F8-4DF1-AD67-4FD94DEA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441F-1D27-4971-B650-DB8CF5BB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0249-B0EC-4F5E-89CB-3276F4C1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1B8E-2B97-4995-ABA4-10419F3F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BB5-7966-422E-B4CB-1B607198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D51B-A204-4713-9E61-5595B339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F1CA-D72F-4FB0-916E-FEF5958F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41B3-4098-4631-AB61-C4DEBDF3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6AFD-92D3-4D3F-8C5E-56C1B8B5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7703-C0C2-47DC-BD71-BF915C40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F81-AA52-4D36-BC2C-63A63C1D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74D-CC8B-4A89-8682-99ED60ED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343-B871-41C5-9693-0BB979E6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8ED-312E-4473-A6E9-9AE27A1B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5CD-74EF-42CE-A574-DB1F4A83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F60-C46A-4163-8E01-B6BC75EE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5F8-0226-4668-8AA7-EE6ABA91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023D-0B5E-408F-AFEA-610E6BB33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74E1-2FFE-4E21-AD11-CCCC15807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3.02G Website Components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99760" y="4492800"/>
            <a:ext cx="723924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.02 Develop webpag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ebsite Compon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website MUST contain an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Index/Home Pag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usiness website should contai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bout 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ontact 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Privacy Polic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website may contai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plash Pa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ite Ma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Home/Index Pag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utomatically loads when URL is keyed into the web brows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metimes called the front pag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roduces the website and communicates the purpose of the websi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rves as an index for the websi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ould create a positive first impression of the websi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d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 get a second chance to make a good first impression!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Home/Index Page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54120" y="1827000"/>
            <a:ext cx="70833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ould be named index.html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l major options for the website should be shown on home pag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cess to home page should be possible from any other page on the websi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home page should contain navigational links or menus to provide viewers with the links they will need to navigate the websi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04560" y="329760"/>
            <a:ext cx="79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ages a Business Websit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ould Contai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8320" indent="-59832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bout U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age defines the website’s purpose and goa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8320" indent="-59832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tact U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page containing contact information to make it easy for viewers to communicate with the busin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8320" indent="-59832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ivacy Polic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page informs viewers how their private information will be handl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ages the Website May Contai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plash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age - an introduction page that appears while the website is loading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82560" indent="-27936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 information that is needed only once per visit to the si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2560" indent="-27936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y be used as a promotion or lead-in to the site’s home p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ite Map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– a basic skeleton of the website intended to help users quickly locate information on the websi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plash Pag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lash pages can be used 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ow a progress bar indicating the website is loading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ell the user what kind of browser or software they need to view the si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low users to choose their language or country’s version of the websi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plash Page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3480" y="1954080"/>
            <a:ext cx="335124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st loadin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s all information on the page quick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tches the user’s attention for a short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4320" y="1969560"/>
            <a:ext cx="32907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82560" indent="-27936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y prevent search engines from accessing the actual si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2560" indent="-27936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readers do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ike splash pag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8:46:23Z</dcterms:created>
  <dc:creator>Lee O'Neal</dc:creator>
  <dc:description/>
  <dc:language>en-US</dc:language>
  <cp:lastModifiedBy>ycsadmin</cp:lastModifiedBy>
  <dcterms:modified xsi:type="dcterms:W3CDTF">2011-06-25T00:25:58Z</dcterms:modified>
  <cp:revision>56</cp:revision>
  <dc:subject/>
  <dc:title>Web Site Development  Competency 8 Create a multimedia web site.</dc:title>
</cp:coreProperties>
</file>